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851E67-9290-43E8-A5E9-C5DCC3A1E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36FC4A-6D25-4A49-B2BE-6E5B61676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DB314C-308E-4B6A-AF1A-DD5F8AF84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AE50E3-24A9-41B2-9328-F11FD2F39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E1C287-E5FE-4E56-9C3C-77A49B88C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6B4F06-EDF2-44B9-8D39-1736C8C33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AF59E0-956F-4B1A-A1EA-A4B397E22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98A3E3-A136-49C6-A287-989BD698D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7F3F07-8B88-4B97-ADF1-696E93AE8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520B15-B060-4D03-9FDF-3C04D3BC9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41E00A-12CC-4053-9CA0-4117EE262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01DEB5-CF9D-4EBF-809F-4641C2867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D00D42-54AF-4528-92AC-114B079C3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54ABD1-A07A-4BC4-A8D0-E39DA8DAC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5CBF48-670B-430B-98D0-63E7487BC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EEC141-7B90-4D87-84D3-4DA8739F2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F7A16D-E072-4D5E-B51C-3EB36FA87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28EFF5-4E2D-4925-98C6-FB204CA5A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8B8F89-7486-478A-81E8-B125DC52D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963AFF-CADD-4165-9695-5AEF532FA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66D9F3-DCDC-472C-B97D-381C4E6C4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23804A-FA8C-4DD5-83B7-CF12B9342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866049-2CA6-417C-B743-2DDDE8624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C21822-1517-4D4B-9BAC-424EC0A40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4DA7F4-211C-46DE-9247-81A83D6A1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41BF9A-3BAB-426F-A8C5-5C7F4E2BC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00474D-5BC9-4608-92D6-71C03609F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F7A921-4336-48F1-A220-04CD96CFC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02C110-04F6-4D99-8B07-26C5598B0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4DB7F3-4CC8-4C52-8C82-6341FDECA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A0AD9-5D78-4701-9D64-45E5C6452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B0C695-668F-4484-826A-3E4D0B7EB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3827ED-1D0B-44C1-9799-98A1017E2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13E082-3364-4EF3-995A-1B1F4AAF0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4EB762-146C-47B4-AD39-8630BCFC4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98E878-D400-4FC5-985D-DB45317BF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EE4255-1568-4FB2-8516-F2556A215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6D3378-F737-49C2-A3CF-61DD025F3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490C22-C862-4BF0-BAFA-C57D9EBB6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CE26E9-9148-4D5C-BA7C-022312624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94D255-8194-44C3-9431-20026F273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E3FC0-FB92-4E27-8F94-773DCA24C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ED30F9-2992-4F85-9D60-D5B0186AF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A23DB9-6718-47AF-9B74-D5AB9C3D5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0FA5B3-8009-4B21-A249-BB09F219F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32B3CF-8D92-4759-8BBA-2671D5E2B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98567D-A664-496A-997D-A1F03A90E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E5311-30B9-4E1D-9700-A091BA72B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DDA4B-D5DA-4D20-AC15-1C4F5EB8D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79D25-140F-4522-89DC-BD1303945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B5314-B99F-41DE-8120-BBB567BC9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65FE0-9504-4E87-B6B5-D5429C2D2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23CC0-E400-4A46-B49F-EBE6FA1C9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DDDA2-DC9B-434C-9117-A9072A744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9A06E-B0E0-4DD4-84FB-976547D76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8B002-F675-43D3-972E-BA36A4D00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83D2F-8C23-4C95-9A9F-A8CE4AC0A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9D97C-8AEF-45C1-9681-801EC6EAA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13E21-2F40-42E7-9F1C-3C2448859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08766-A6EF-40FC-9F52-F61C5FFB7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D6FF6-FD45-4B34-9A51-A11A7DDFA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D55C9-0AF6-4DB8-B303-23B7F290C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19FBB-552E-46E2-A459-92A9E3F68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DCEFB-F8E3-42BD-A436-65541A4C3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9DEE5-C79B-4974-897B-BDF3597E5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677AA-C634-4EC9-9256-581124E29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CB4BB-13E9-4E1B-8063-24B2AC6B8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C108E-CE22-488D-822D-926B4D585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4DE8A-05FB-41DC-95BB-550651CAB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445379-32E8-4B92-A3C1-3CC752AFA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30F61F-B719-4373-A153-B1E544765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51E421-747A-4CD8-86CF-7D19A7CAF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8C8A44-24F3-4913-8A1E-D9D9AABA8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379645-5563-431E-B5CD-4F88F82DE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64D358-7E41-4D42-8179-40A00A8A5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8927B1-ACF8-4C61-9C91-BB784C0F2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EF7D0F-DB3D-4DE1-A482-001642C06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788127-BBB0-4426-A3D5-39F4B09EA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E840A8-FB0E-4330-8C9A-7952B4D8B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1CECA7-08FF-44A1-9C08-E67B1A594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24E207-88AE-46CF-BA00-0CDB1EC0C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D743B6-EA22-46D0-9286-B65F5B46C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34E509-8796-4E62-B456-77307F7FE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E58A77-CAEA-4F0C-839B-BFE846DBB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9D05AE-25D4-4630-AC11-FCABB3829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EEFF58-2974-4A08-BE14-3386E38F6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2ED02C-F668-4079-8DBB-ADF4ABF57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4283D6-3DF5-4B32-8A0E-B02C2C2A2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6B0E0D-9771-4194-8BBC-1D1F0B1AD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8E9811-6B68-48FF-B938-FF9A86513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A691C2-25E9-4685-B3AF-A1E83229C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D2D990-F355-481D-AE34-35858E42A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7FC187-A8C0-4BFF-935E-4D1D7B9AC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4FE6AC-6346-46EF-9151-7C52BC0BD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E89983-2666-48AB-9AF3-A976A7594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76FDF2-C460-41B1-86E9-82118947A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0D21D4-C88F-4755-8F47-E2AA5E724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803507-A2FE-48DE-AB89-C894795D1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13E278-A2CA-4018-A7A3-8EDA03DC1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D3EBCE-D272-480E-8217-048B035BC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0680C2-6770-4622-85D0-C52316774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7C3FE0-C213-4FDA-85D1-17C0D22E1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FB376E-5486-4AFD-A9F8-361C4B80C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83EA97-C95B-48B7-8C78-43D313EBD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B4F1D6-7CF2-49A8-B63C-BCD19D5D9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A6F0CE-C8AD-4345-94B2-4F2FBCE0D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421D1D-5208-4A06-A9EE-F08465D54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498401-F914-4466-A6D1-60F2A0685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2A70E7-B4AE-462C-80D1-D74A6607E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814ED7-D92F-4897-A3C2-9A3C6E6CE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D14C56-31B0-409D-A5E7-C18A0A7F9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A9C1F8-A743-4B67-98BD-75B26CADD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DF3456-3D4F-423C-9399-BC0C65257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7277E0-6753-4DCF-858F-AFDFFFD6D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5BF041-61AC-4CA8-85EF-CAB455226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0DF3F1-E6EA-41E0-B945-5F936739A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DC83ED-8AF8-428C-9524-71928F945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E7290E-1E90-418B-95AD-9E19E69C6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FBDC90-EC1E-4236-9297-D40C88D1E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1156CF-4869-45F1-8873-15C3FF8CD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3280BA-627E-4400-BD42-610FABD85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71E0E6-145A-466B-BB78-0C26E150A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59B0BB-632D-407A-842C-A9011F7BD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BE224F-5F20-482E-8081-B1065898F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51636F-A4F8-4CAB-85FD-0EDBA6FF1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BBF22B-8848-4E35-BC77-EF6FCD9E6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3A429E-7D74-46F3-B2AA-B21A3C2DD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E09126-5F3B-42AF-8677-9AE9758B2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1731C4-8F3A-4C3A-80D6-10E463E76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24F47C-67CF-4F6B-8635-084F62A9E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92B7CA-5052-47CA-BA89-67B38F246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184CBF-0777-4DFD-80F1-D3794F488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09.xml"/><Relationship Id="rId8" Type="http://schemas.openxmlformats.org/officeDocument/2006/relationships/slideLayout" Target="../slideLayouts/slideLayout110.xml"/><Relationship Id="rId9" Type="http://schemas.openxmlformats.org/officeDocument/2006/relationships/slideLayout" Target="../slideLayouts/slideLayout111.xml"/><Relationship Id="rId10" Type="http://schemas.openxmlformats.org/officeDocument/2006/relationships/slideLayout" Target="../slideLayouts/slideLayout112.xml"/><Relationship Id="rId11" Type="http://schemas.openxmlformats.org/officeDocument/2006/relationships/slideLayout" Target="../slideLayouts/slideLayout113.xml"/><Relationship Id="rId12" Type="http://schemas.openxmlformats.org/officeDocument/2006/relationships/slideLayout" Target="../slideLayouts/slideLayout114.xml"/><Relationship Id="rId13" Type="http://schemas.openxmlformats.org/officeDocument/2006/relationships/slideLayout" Target="../slideLayouts/slideLayout115.xml"/><Relationship Id="rId14" Type="http://schemas.openxmlformats.org/officeDocument/2006/relationships/slideLayout" Target="../slideLayouts/slideLayout116.xml"/><Relationship Id="rId15" Type="http://schemas.openxmlformats.org/officeDocument/2006/relationships/slideLayout" Target="../slideLayouts/slideLayout117.xml"/><Relationship Id="rId16" Type="http://schemas.openxmlformats.org/officeDocument/2006/relationships/slideLayout" Target="../slideLayouts/slideLayout118.xml"/><Relationship Id="rId17" Type="http://schemas.openxmlformats.org/officeDocument/2006/relationships/slideLayout" Target="../slideLayouts/slideLayout119.xml"/><Relationship Id="rId18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33.xml"/><Relationship Id="rId8" Type="http://schemas.openxmlformats.org/officeDocument/2006/relationships/slideLayout" Target="../slideLayouts/slideLayout134.xml"/><Relationship Id="rId9" Type="http://schemas.openxmlformats.org/officeDocument/2006/relationships/slideLayout" Target="../slideLayouts/slideLayout135.xml"/><Relationship Id="rId10" Type="http://schemas.openxmlformats.org/officeDocument/2006/relationships/slideLayout" Target="../slideLayouts/slideLayout136.xml"/><Relationship Id="rId11" Type="http://schemas.openxmlformats.org/officeDocument/2006/relationships/slideLayout" Target="../slideLayouts/slideLayout137.xml"/><Relationship Id="rId12" Type="http://schemas.openxmlformats.org/officeDocument/2006/relationships/slideLayout" Target="../slideLayouts/slideLayout138.xml"/><Relationship Id="rId13" Type="http://schemas.openxmlformats.org/officeDocument/2006/relationships/slideLayout" Target="../slideLayouts/slideLayout139.xml"/><Relationship Id="rId14" Type="http://schemas.openxmlformats.org/officeDocument/2006/relationships/slideLayout" Target="../slideLayouts/slideLayout140.xml"/><Relationship Id="rId15" Type="http://schemas.openxmlformats.org/officeDocument/2006/relationships/slideLayout" Target="../slideLayouts/slideLayout141.xml"/><Relationship Id="rId16" Type="http://schemas.openxmlformats.org/officeDocument/2006/relationships/slideLayout" Target="../slideLayouts/slideLayout142.xml"/><Relationship Id="rId17" Type="http://schemas.openxmlformats.org/officeDocument/2006/relationships/slideLayout" Target="../slideLayouts/slideLayout143.xml"/><Relationship Id="rId18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73.xml"/><Relationship Id="rId8" Type="http://schemas.openxmlformats.org/officeDocument/2006/relationships/slideLayout" Target="../slideLayouts/slideLayout74.xml"/><Relationship Id="rId9" Type="http://schemas.openxmlformats.org/officeDocument/2006/relationships/slideLayout" Target="../slideLayouts/slideLayout75.xml"/><Relationship Id="rId10" Type="http://schemas.openxmlformats.org/officeDocument/2006/relationships/slideLayout" Target="../slideLayouts/slideLayout76.xml"/><Relationship Id="rId11" Type="http://schemas.openxmlformats.org/officeDocument/2006/relationships/slideLayout" Target="../slideLayouts/slideLayout77.xml"/><Relationship Id="rId12" Type="http://schemas.openxmlformats.org/officeDocument/2006/relationships/slideLayout" Target="../slideLayouts/slideLayout78.xml"/><Relationship Id="rId13" Type="http://schemas.openxmlformats.org/officeDocument/2006/relationships/slideLayout" Target="../slideLayouts/slideLayout79.xml"/><Relationship Id="rId14" Type="http://schemas.openxmlformats.org/officeDocument/2006/relationships/slideLayout" Target="../slideLayouts/slideLayout80.xml"/><Relationship Id="rId15" Type="http://schemas.openxmlformats.org/officeDocument/2006/relationships/slideLayout" Target="../slideLayouts/slideLayout81.xml"/><Relationship Id="rId16" Type="http://schemas.openxmlformats.org/officeDocument/2006/relationships/slideLayout" Target="../slideLayouts/slideLayout82.xml"/><Relationship Id="rId17" Type="http://schemas.openxmlformats.org/officeDocument/2006/relationships/slideLayout" Target="../slideLayouts/slideLayout83.xml"/><Relationship Id="rId18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85.xml"/><Relationship Id="rId8" Type="http://schemas.openxmlformats.org/officeDocument/2006/relationships/slideLayout" Target="../slideLayouts/slideLayout86.xml"/><Relationship Id="rId9" Type="http://schemas.openxmlformats.org/officeDocument/2006/relationships/slideLayout" Target="../slideLayouts/slideLayout87.xml"/><Relationship Id="rId10" Type="http://schemas.openxmlformats.org/officeDocument/2006/relationships/slideLayout" Target="../slideLayouts/slideLayout88.xml"/><Relationship Id="rId11" Type="http://schemas.openxmlformats.org/officeDocument/2006/relationships/slideLayout" Target="../slideLayouts/slideLayout89.xml"/><Relationship Id="rId12" Type="http://schemas.openxmlformats.org/officeDocument/2006/relationships/slideLayout" Target="../slideLayouts/slideLayout90.xml"/><Relationship Id="rId13" Type="http://schemas.openxmlformats.org/officeDocument/2006/relationships/slideLayout" Target="../slideLayouts/slideLayout91.xml"/><Relationship Id="rId14" Type="http://schemas.openxmlformats.org/officeDocument/2006/relationships/slideLayout" Target="../slideLayouts/slideLayout92.xml"/><Relationship Id="rId15" Type="http://schemas.openxmlformats.org/officeDocument/2006/relationships/slideLayout" Target="../slideLayouts/slideLayout93.xml"/><Relationship Id="rId16" Type="http://schemas.openxmlformats.org/officeDocument/2006/relationships/slideLayout" Target="../slideLayouts/slideLayout94.xml"/><Relationship Id="rId17" Type="http://schemas.openxmlformats.org/officeDocument/2006/relationships/slideLayout" Target="../slideLayouts/slideLayout95.xml"/><Relationship Id="rId18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2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4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399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DA33A-4746-456A-9882-5D017391C323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7"/>
    <p:sldLayoutId id="2147483767" r:id="rId8"/>
    <p:sldLayoutId id="2147483768" r:id="rId9"/>
    <p:sldLayoutId id="2147483769" r:id="rId10"/>
    <p:sldLayoutId id="2147483770" r:id="rId11"/>
    <p:sldLayoutId id="2147483771" r:id="rId12"/>
    <p:sldLayoutId id="2147483772" r:id="rId13"/>
    <p:sldLayoutId id="2147483773" r:id="rId14"/>
    <p:sldLayoutId id="2147483774" r:id="rId15"/>
    <p:sldLayoutId id="2147483775" r:id="rId16"/>
    <p:sldLayoutId id="2147483776" r:id="rId17"/>
    <p:sldLayoutId id="2147483777" r:id="rId18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443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444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6F3A9-81DE-4E84-A30F-C5E706BBC40B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485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486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487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488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03FDB-74E6-4763-996E-B9C06F61AD00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7"/>
    <p:sldLayoutId id="2147483793" r:id="rId8"/>
    <p:sldLayoutId id="2147483794" r:id="rId9"/>
    <p:sldLayoutId id="2147483795" r:id="rId10"/>
    <p:sldLayoutId id="2147483796" r:id="rId11"/>
    <p:sldLayoutId id="2147483797" r:id="rId12"/>
    <p:sldLayoutId id="2147483798" r:id="rId13"/>
    <p:sldLayoutId id="2147483799" r:id="rId14"/>
    <p:sldLayoutId id="2147483800" r:id="rId15"/>
    <p:sldLayoutId id="2147483801" r:id="rId16"/>
    <p:sldLayoutId id="2147483802" r:id="rId17"/>
    <p:sldLayoutId id="2147483803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45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89475-414B-44A7-9CAE-07616669E135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89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80EDF-2C75-49CC-94E7-29A42F74BBE5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135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03207-A014-433E-ABA2-676F2E3F2612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179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7C6C1-6930-435D-A0F2-65FBC38FB011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223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224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BE9CD-DB52-4945-B673-901C299D4688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267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268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7CA2F-371F-4205-9139-734CA7B508F0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7"/>
    <p:sldLayoutId id="2147483728" r:id="rId8"/>
    <p:sldLayoutId id="2147483729" r:id="rId9"/>
    <p:sldLayoutId id="2147483730" r:id="rId10"/>
    <p:sldLayoutId id="2147483731" r:id="rId11"/>
    <p:sldLayoutId id="2147483732" r:id="rId12"/>
    <p:sldLayoutId id="2147483733" r:id="rId13"/>
    <p:sldLayoutId id="2147483734" r:id="rId14"/>
    <p:sldLayoutId id="2147483735" r:id="rId15"/>
    <p:sldLayoutId id="2147483736" r:id="rId16"/>
    <p:sldLayoutId id="2147483737" r:id="rId17"/>
    <p:sldLayoutId id="2147483738" r:id="rId18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311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312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8C687-2472-4F34-809B-FE7F7AE7EBBF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7"/>
    <p:sldLayoutId id="2147483741" r:id="rId8"/>
    <p:sldLayoutId id="2147483742" r:id="rId9"/>
    <p:sldLayoutId id="2147483743" r:id="rId10"/>
    <p:sldLayoutId id="2147483744" r:id="rId11"/>
    <p:sldLayoutId id="2147483745" r:id="rId12"/>
    <p:sldLayoutId id="2147483746" r:id="rId13"/>
    <p:sldLayoutId id="2147483747" r:id="rId14"/>
    <p:sldLayoutId id="2147483748" r:id="rId15"/>
    <p:sldLayoutId id="2147483749" r:id="rId16"/>
    <p:sldLayoutId id="2147483750" r:id="rId17"/>
    <p:sldLayoutId id="2147483751" r:id="rId18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355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356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D8881-69C2-44B7-874C-24C3C4B0E9C4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85716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Descentralização da Gestão do município de Ponte Alta do Bom Jesu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Espaço Reservado para Número de Slid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CC873-235D-4207-AC76-D934985052C3}" type="slidenum">
              <a:rPr b="0" lang="pt-B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9" name="Tabela 4" descr=""/>
          <p:cNvPicPr/>
          <p:nvPr/>
        </p:nvPicPr>
        <p:blipFill>
          <a:blip r:embed="rId1"/>
          <a:stretch/>
        </p:blipFill>
        <p:spPr>
          <a:xfrm>
            <a:off x="212760" y="1712880"/>
            <a:ext cx="8077320" cy="519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16T12:40:42Z</dcterms:created>
  <dc:creator>Cleison Lima Moura</dc:creator>
  <dc:description/>
  <dc:language>en-US</dc:language>
  <cp:lastModifiedBy>marleidesilva</cp:lastModifiedBy>
  <cp:lastPrinted>2017-04-12T15:53:19Z</cp:lastPrinted>
  <dcterms:modified xsi:type="dcterms:W3CDTF">2017-04-19T19:16:40Z</dcterms:modified>
  <cp:revision>929</cp:revision>
  <dc:subject/>
  <dc:title>Apresentação do PowerPoint</dc:title>
</cp:coreProperties>
</file>